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wind.wav" ContentType="audio/x-wav"/>
  <Override PartName="/ppt/media/image1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9.gif" ContentType="image/gif"/>
  <Override PartName="/ppt/media/image1.jpeg" ContentType="image/jpeg"/>
  <Override PartName="/ppt/media/image18.png" ContentType="image/png"/>
  <Override PartName="/ppt/media/image17.wmf" ContentType="image/x-wmf"/>
  <Override PartName="/ppt/media/image13.jpeg" ContentType="image/jpeg"/>
  <Override PartName="/ppt/media/thunder1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rain1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44D-16D3-4C1F-BB87-87AA1008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7FD-0DF3-4A8C-BF3E-8D46E24B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689-3552-4684-BEE4-B3039A05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780-6F85-4D09-9F2B-078D3557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3858-2B9A-4442-B131-FEE49D6B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66C-1697-4411-88B0-B5147AD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1B3D-71A9-4515-B963-2A2A06C2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5B88-C08D-4364-B96A-F6EA7560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D8C6-9AAD-4EE1-A2D6-CC8D353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B87-C515-46CE-ACFF-AA5ECFD8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CCC9-8E3A-4E6B-B2D8-1A20EB2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B92-46F0-43AA-AD89-F04A7E48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49F-62D5-4B37-8A19-F7E8AEE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433-B281-4175-B74F-F03A2BB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300C-9963-4386-A13C-BC7969C6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6336-526B-41CC-B460-27B6656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71BA-FA46-420C-9A93-842BF376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E12-65B8-4764-847A-A803714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388-E4A1-4705-AB27-08F606C7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B36-7A92-4336-A197-8B3C95F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F68-A876-4325-B755-2ACC510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351-B0E1-4FC9-AC68-7538DC8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8BC-DD34-4138-8305-B7DCDFA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4A3-D4AA-4C73-AEBB-DC161CC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586-31FD-40C6-A1FC-8209C14CD6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DC9-0B3A-47CD-921F-9980EEFA0CA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wind.wav"/><Relationship Id="rId8" Type="http://schemas.openxmlformats.org/officeDocument/2006/relationships/audio" Target="../media/thunder1.wav"/><Relationship Id="rId9" Type="http://schemas.openxmlformats.org/officeDocument/2006/relationships/audio" Target="../media/rain1.wav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радуга"/>
          <p:cNvPicPr/>
          <p:nvPr/>
        </p:nvPicPr>
        <p:blipFill>
          <a:blip r:embed="rId1"/>
          <a:stretch/>
        </p:blipFill>
        <p:spPr>
          <a:xfrm>
            <a:off x="468360" y="260280"/>
            <a:ext cx="8277120" cy="6337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y are win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 winter i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ring i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ummer i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umn is cool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winter, spring, summer and autum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winter it is cold and snowy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g is a warm seaso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er is a nice seaso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umn is cool, foggy and rainy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700360" y="404640"/>
            <a:ext cx="453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190800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723600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826920" y="4005360"/>
            <a:ext cx="194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6372360" y="4292640"/>
            <a:ext cx="200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so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-50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18" descr="http://members.tripod.com/~jillsmickimouse/images/xmas-mic06.gif"/>
          <p:cNvPicPr/>
          <p:nvPr/>
        </p:nvPicPr>
        <p:blipFill>
          <a:blip r:embed="rId3"/>
          <a:stretch/>
        </p:blipFill>
        <p:spPr>
          <a:xfrm>
            <a:off x="3780000" y="1628640"/>
            <a:ext cx="1657080" cy="2638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1584360" cy="1944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loud 04"/>
          <p:cNvPicPr/>
          <p:nvPr/>
        </p:nvPicPr>
        <p:blipFill>
          <a:blip r:embed="rId5"/>
          <a:stretch/>
        </p:blipFill>
        <p:spPr>
          <a:xfrm>
            <a:off x="6156360" y="1844640"/>
            <a:ext cx="2016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539640" y="4365720"/>
            <a:ext cx="806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  you  for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lesson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8" name="Picture 4" descr="c8808defcd47[1]"/>
          <p:cNvPicPr/>
          <p:nvPr/>
        </p:nvPicPr>
        <p:blipFill>
          <a:blip r:embed="rId6"/>
          <a:stretch/>
        </p:blipFill>
        <p:spPr>
          <a:xfrm>
            <a:off x="1619280" y="189000"/>
            <a:ext cx="5715000" cy="40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Tahoma"/>
              </a:rPr>
              <a:t>The Weather</a:t>
            </a:r>
            <a:endParaRPr b="0" lang="en-US" sz="8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237" name="Picture 5" descr="1"/>
          <p:cNvPicPr/>
          <p:nvPr/>
        </p:nvPicPr>
        <p:blipFill>
          <a:blip r:embed="rId1"/>
          <a:stretch/>
        </p:blipFill>
        <p:spPr>
          <a:xfrm>
            <a:off x="642960" y="3000240"/>
            <a:ext cx="131436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5"/>
          <p:cNvPicPr/>
          <p:nvPr/>
        </p:nvPicPr>
        <p:blipFill>
          <a:blip r:embed="rId2"/>
          <a:stretch/>
        </p:blipFill>
        <p:spPr>
          <a:xfrm>
            <a:off x="6929280" y="392904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"/>
          <p:cNvPicPr/>
          <p:nvPr/>
        </p:nvPicPr>
        <p:blipFill>
          <a:blip r:embed="rId3"/>
          <a:stretch/>
        </p:blipFill>
        <p:spPr>
          <a:xfrm>
            <a:off x="3786120" y="2286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6"/>
          <p:cNvPicPr/>
          <p:nvPr/>
        </p:nvPicPr>
        <p:blipFill>
          <a:blip r:embed="rId4"/>
          <a:stretch/>
        </p:blipFill>
        <p:spPr>
          <a:xfrm>
            <a:off x="3429000" y="4286160"/>
            <a:ext cx="1314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i] spring, winter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ɔ] on, not, clock, frog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ʌ] duck, summer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au] mouth, down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əu] don’t, open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пк\Desktop\погода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Kid with Umbrella 4"/>
          <p:cNvPicPr/>
          <p:nvPr/>
        </p:nvPicPr>
        <p:blipFill>
          <a:blip r:embed="rId1"/>
          <a:stretch/>
        </p:blipFill>
        <p:spPr>
          <a:xfrm>
            <a:off x="5580000" y="3068640"/>
            <a:ext cx="2059200" cy="2100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Thermometer 2"/>
          <p:cNvPicPr/>
          <p:nvPr/>
        </p:nvPicPr>
        <p:blipFill>
          <a:blip r:embed="rId2"/>
          <a:stretch/>
        </p:blipFill>
        <p:spPr>
          <a:xfrm>
            <a:off x="1042920" y="350028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Freezing 3"/>
          <p:cNvPicPr/>
          <p:nvPr/>
        </p:nvPicPr>
        <p:blipFill>
          <a:blip r:embed="rId3"/>
          <a:stretch/>
        </p:blipFill>
        <p:spPr>
          <a:xfrm>
            <a:off x="3203640" y="0"/>
            <a:ext cx="1714320" cy="21765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2"/>
          <p:cNvSpPr txBox="1"/>
          <p:nvPr/>
        </p:nvSpPr>
        <p:spPr>
          <a:xfrm>
            <a:off x="684360" y="2133720"/>
            <a:ext cx="7696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Rounded MT Bold"/>
              </a:rPr>
              <a:t>What's the 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Rounded MT Bold"/>
              </a:rPr>
              <a:t>weather like today?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248" name="Picture 4" descr="Caught in Storm 3"/>
          <p:cNvPicPr/>
          <p:nvPr/>
        </p:nvPicPr>
        <p:blipFill>
          <a:blip r:embed="rId4"/>
          <a:stretch/>
        </p:blipFill>
        <p:spPr>
          <a:xfrm>
            <a:off x="228600" y="457200"/>
            <a:ext cx="1905120" cy="163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hunderstorm 4"/>
          <p:cNvPicPr/>
          <p:nvPr/>
        </p:nvPicPr>
        <p:blipFill>
          <a:blip r:embed="rId5"/>
          <a:stretch/>
        </p:blipFill>
        <p:spPr>
          <a:xfrm>
            <a:off x="6781680" y="228600"/>
            <a:ext cx="2362320" cy="19908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7"/>
          <p:cNvSpPr txBox="1"/>
          <p:nvPr/>
        </p:nvSpPr>
        <p:spPr>
          <a:xfrm>
            <a:off x="684360" y="472428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ather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1" name="Picture 8" descr="Overheating 1"/>
          <p:cNvPicPr/>
          <p:nvPr/>
        </p:nvPicPr>
        <p:blipFill>
          <a:blip r:embed="rId6"/>
          <a:stretch/>
        </p:blipFill>
        <p:spPr>
          <a:xfrm>
            <a:off x="5334120" y="380880"/>
            <a:ext cx="1201680" cy="1905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602136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hunde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i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_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st_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_g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_n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_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_ _ 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_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_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st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,s  time to have a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s://im2-tub-ru.yandex.net/i?id=e5541e34c5e5b6cd98d6a181a1812d27&amp;n=33&amp;h=215&amp;w=171"/>
          <p:cNvPicPr/>
          <p:nvPr/>
        </p:nvPicPr>
        <p:blipFill>
          <a:blip r:embed="rId1"/>
          <a:stretch/>
        </p:blipFill>
        <p:spPr>
          <a:xfrm>
            <a:off x="2209680" y="1711440"/>
            <a:ext cx="33703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y if the following sentences are true (T) or false (F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six seasons in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ter is cold and snow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es are yellow in win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have holidays in sum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ains several times a day in aut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51:01Z</dcterms:created>
  <dc:creator>User</dc:creator>
  <dc:description/>
  <dc:language>en-US</dc:language>
  <cp:lastModifiedBy>1</cp:lastModifiedBy>
  <dcterms:modified xsi:type="dcterms:W3CDTF">2019-03-10T14:45:50Z</dcterms:modified>
  <cp:revision>169</cp:revision>
  <dc:subject/>
  <dc:title>The Weather</dc:title>
</cp:coreProperties>
</file>